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695-03A5-4D7B-A328-8A076092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B49-4E54-4A1D-B1BD-A7623B19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3FF-8C99-410A-9602-E1C13ABB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D8C-7A3F-4857-A2E9-FB3A6EFD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F51-1792-485A-9323-4C05B79A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992-E93C-4209-964D-D2C9F0E9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926-15BF-43B8-8FF5-593162D9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54D-F4E5-4D2F-8924-A0ACABA3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B18-44D9-4FC5-AA46-EDB8D9E0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4E8-47CA-4686-86E0-D846D9E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F98-3192-4085-B5E7-AB16C6B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E2E-5D35-4777-9B68-C64A94CA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B20C-29B2-4C61-A5C8-C39DA047B369}" type="slidenum">
              <a:rPr b="0" lang="sr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51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лобални барометар корупције 2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оград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ун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олико грађана је спремно да плати више да би купило нешто од фирме која не корумпи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1773360"/>
          <a:ext cx="799128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99128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олико често фирме подмићивањем утичу на креирање политике и садржај пропис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9800" y="2604960"/>
          <a:ext cx="822492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2604960"/>
                    <a:ext cx="822492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олики је проблем у Србији подмићивање у вези са земљиштем и грађењ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2205000"/>
          <a:ext cx="8207280" cy="38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82072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посредно искуство грађана са корупциј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8% каже да су они или неки члан домаћинства подмићивали у последњих 12 месе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3 % испитаника тврди да 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9% испитаника “не зна” или не жели да одговори на ово пит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зултати слични као и ранијих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олика је била вредност датог мита (у последњих 12 месец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68% каже да није дало ниш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% каже да је вредност била испод 30 долара (око 2000 дин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% каже да је вредност била између 30 и 100 долара (између 2 и 7 хиљада дин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% каже да је вредност била између 100 и 500 долара (између 7 и 35 хиљада дин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ак 23 % одбија да одговори или “не зн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 којим областима је долазило до давања мита (међу грађанима који су били у контакту са институција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2492280"/>
          <a:ext cx="8229600" cy="3394080"/>
        </p:xfrm>
        <a:graphic>
          <a:graphicData uri="http://schemas.openxmlformats.org/drawingml/2006/table">
            <a:tbl>
              <a:tblPr/>
              <a:tblGrid>
                <a:gridCol w="876240"/>
                <a:gridCol w="1203480"/>
                <a:gridCol w="1460520"/>
                <a:gridCol w="1842840"/>
                <a:gridCol w="1349640"/>
                <a:gridCol w="1496880"/>
              </a:tblGrid>
              <a:tr h="89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уђ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равствене услу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еске служб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истраживањ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једнички пројека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cy Internationa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llup Internationa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који се спроводи већ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од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за р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раживање ове године спроведено у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држа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територије са укупно 73.132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рбији теренски део истраживања спроведен новембра 2008, на националном узорку од 1015 испитаника који репрезентује целокупно становништво (централна Србија и Војводина). Истраживање је спрове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NS Medium Gallup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ом “лицем у лице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 се Влада бори против корупциј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484280"/>
          <a:ext cx="9144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а Вла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ечна оцена учинка Владе у борби против корупције се незнатно погоршала у односу на прошлу годину (са 2,40 на 2,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ако је истраживање рађено у доба када су усвајани важни антикорупцијски закони (нов. 2008), то није било довољно за поправљање утиска грађана – тај утисак се може поправити само применом тих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поред тога што је борба против корупције високо на листи приоритета, грађани још увек не виде учин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релације искуства грађана са корупцијом 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0080" y="6381720"/>
            <a:ext cx="68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rce: Transparency International Global Corruption Barometer 2009 and CPI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264360" cy="45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релације перцепције грађана и експерата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0080" y="6381720"/>
            <a:ext cx="68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rce: Transparency International Global Corruption Barometer 2009 and CPI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1569960"/>
            <a:ext cx="576108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ерцепција о корупцији грађа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GCB)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 експерата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PI)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 Срб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484280"/>
          <a:ext cx="828036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280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тисак грађана о корумпираности (просечна оцена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48428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олико је корупција сигуран поса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1557360"/>
          <a:ext cx="88200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820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4:30:29Z</dcterms:created>
  <dc:creator>Nemanja</dc:creator>
  <dc:description/>
  <dc:language>en-US</dc:language>
  <cp:lastModifiedBy>User</cp:lastModifiedBy>
  <dcterms:modified xsi:type="dcterms:W3CDTF">2014-03-27T12:21:29Z</dcterms:modified>
  <cp:revision>9</cp:revision>
  <dc:subject/>
  <dc:title>Глобални барометар корупције 2007</dc:title>
</cp:coreProperties>
</file>